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0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ucocyte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ite Blood Cel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ucocy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osinophils or Acidophil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rge, numerous granu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uclei with two lob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-5% of WBC cou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nd in lining of respiratory and digestive trac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ortant functions involve protections against infections caused by parasitic worms and involvement in allergic reac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crete anti-inflammatory substances in allergic reac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osinophils or Acidophi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, numerous gran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i with two 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5% of WBC 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lining of respiratory and digestive 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functions involve protections against infections caused by parasitic worms and involvement in allergic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 anti-inflammatory substances in allergic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s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ast numerous--.5-1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apedesis—Can leave blood vessels and enter tissue spa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tain histamine,serotonin,heparin—inflammatory chemic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numerous--.5-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pedesis—Can leave blood vessels and enter tissue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histamine,serotonin,heparin—inflammatory 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ranul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ymph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mallest WB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rge nuclei/small amount of cytoplas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count for 25% of WBC cou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wo types—T lymphocytes—attack an infect or cancerous cell, B lymphocytes—produce antibodies against specific antigens (foreign bod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ranul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mph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st W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nuclei/small amount of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 for 25% of WBC 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—T lymphocytes—attack an infect or cancerous cell, B lymphocytes—produce antibodies against specific antigens (foreign bod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ranul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n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rgest of WB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rk kidney bean shaped nucle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ghly phagocyt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ranul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of WB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kidney bean shaped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ly phagocy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are also known as Leucocytes as they are colorless due to lack of Haemoglob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bout 6000-8000mm of WBC for 1ml of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also called Scavengers &amp; Microscopic policem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orp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BC Numb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ctors look at WBC number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f number goes up there is some kind of infection and surgery might be neede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nics will count the number of WBC’s in a blood sample, this is called differential coun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decrease in the number of white blood cells is leukopen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 increase in the number of white blood cells is leukocytosi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BC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tors look at WBC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number goes up there is some kind of infection and surgery might be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ics will count the number of WBC’s in a blood sample, this is called differential cou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crease in the number of white blood cells is leukope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crease in the number of white blood cells is leukocyt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rmation of WBC’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ucocytes are formed in the red marrow of many bon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y can also be formed in lymphatic tissu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y live for about 13-20 day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WBC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ucocytes are formed in the red marrow of many b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also be formed in lymphatic 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live for about 13-20 day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.RajaSekh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d b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GUIIIT,Ba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.RajaSek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GUIIIT,Bas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BC’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ve Typ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ified according to the presence or absence of granules and the staining characteristics of their cytoplasm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ucocytes appear brightly colored in stained preparations, they have a nuclei and are generally larger in size than RBC’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BC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Ty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ed according to the presence or absence of granules and the staining characteristics of their cytopla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ucocytes appear brightly colored in stained preparations, they have a nuclei and are generally larger in size than RBC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ype of WBC’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ocytes—have large granules in their cytoplas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utr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osin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s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of WBC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ocytes—have large granules in their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osin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ypes of WBC’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ranulocytes—do not have granules in their cytoplas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ymph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n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WBC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ranulocytes—do not have granules in their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mph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octy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utr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in light purple with neutral dy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es are small and numerous—course appeara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ral lobes in nucle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5% of WBC cou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ghly mobile/very activ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apedesis—Can leave blood vessels and enter tissue spa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hagocytosis (eater), contain several lysosomes (janito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oct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in light purple with neutral d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es are small and numerous—course appea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lobes in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% of WBC 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ly mobile/very a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pedesis—Can leave blood vessels and enter tissue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gocytosis (eater), contain several lysosomes (jani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A8135-E45D-4713-94D9-11CD0ADA98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76F59-AB0B-4EAB-8710-838938240F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0D1F1-824D-4BC5-B5C9-B07BF728C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1932F-C8E1-42D3-A7A0-D7A1CAF61A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B0C8E-1561-4715-B4C3-2A6ED3B011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CB4BC-DA71-4FAA-8244-8DECA45C06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26479-CE23-4642-8BAB-DC559401E7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1C6F7-0FD8-498E-AE8C-DAB9E4858C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9B6A2-7BA2-470C-8674-4D14DB5655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B44B1-694B-4253-83CF-77580AAC92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E6CA3-953A-4BC1-9C7A-1EED325B7B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F80D8-5922-4726-A62C-40DE7AE030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FCD47-F8B1-46A8-A632-1148BF560B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21EB2-1C27-4C8F-8B68-3717290CE8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9677A-E625-4687-B528-151D1CBF3A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A2CEB-7967-4BFE-AF30-43D33E7FB6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05AEE-3D9E-40C2-894E-3925C32669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38A38-4058-4129-825A-BCE11D2E13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B5410-DDD8-408E-AC22-CEB887FEED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F42F5-A76B-4BD3-A835-8E79CF213F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2C8EE-3C22-473C-A08A-5A2D5BC88A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244BB-DC85-4B88-8318-C65A3E4EEA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AAC67-E2EB-4E5D-AC64-8952CFC6D6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6881F-241C-4C60-8DEA-62D0ED6940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1162080" y="624060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Text Box 11"/>
          <p:cNvSpPr/>
          <p:nvPr/>
        </p:nvSpPr>
        <p:spPr>
          <a:xfrm>
            <a:off x="3657600" y="6240600"/>
            <a:ext cx="2895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7042320" y="624312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EB478-FF46-41A8-9E20-02BCC9361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9" name="Group 2"/>
            <p:cNvGrpSpPr/>
            <p:nvPr/>
          </p:nvGrpSpPr>
          <p:grpSpPr>
            <a:xfrm>
              <a:off x="293400" y="2545920"/>
              <a:ext cx="710280" cy="472320"/>
              <a:chOff x="293400" y="2545920"/>
              <a:chExt cx="710280" cy="472320"/>
            </a:xfrm>
          </p:grpSpPr>
          <p:sp>
            <p:nvSpPr>
              <p:cNvPr id="50" name="Rectangle 3"/>
              <p:cNvSpPr/>
              <p:nvPr/>
            </p:nvSpPr>
            <p:spPr>
              <a:xfrm>
                <a:off x="29340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4"/>
              <p:cNvSpPr/>
              <p:nvPr/>
            </p:nvSpPr>
            <p:spPr>
              <a:xfrm>
                <a:off x="67608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5"/>
            <p:cNvGrpSpPr/>
            <p:nvPr/>
          </p:nvGrpSpPr>
          <p:grpSpPr>
            <a:xfrm>
              <a:off x="417240" y="2967480"/>
              <a:ext cx="737640" cy="472320"/>
              <a:chOff x="417240" y="2967480"/>
              <a:chExt cx="737640" cy="472320"/>
            </a:xfrm>
          </p:grpSpPr>
          <p:sp>
            <p:nvSpPr>
              <p:cNvPr id="53" name="Rectangle 6"/>
              <p:cNvSpPr/>
              <p:nvPr/>
            </p:nvSpPr>
            <p:spPr>
              <a:xfrm>
                <a:off x="417240" y="2967480"/>
                <a:ext cx="42084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7"/>
              <p:cNvSpPr/>
              <p:nvPr/>
            </p:nvSpPr>
            <p:spPr>
              <a:xfrm>
                <a:off x="785880" y="2967480"/>
                <a:ext cx="3690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5" name="Rectangle 8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990720" y="624528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3429000" y="6245280"/>
            <a:ext cx="2895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E49E0-D784-49A0-AA3B-E0827A077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990720" y="167652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ucocyte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ite Blood Cel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95200" y="4114800"/>
            <a:ext cx="8620200" cy="685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5715000" y="4435560"/>
            <a:ext cx="25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b84700"/>
                </a:solidFill>
                <a:latin typeface="Tahoma"/>
              </a:rPr>
              <a:t>Ba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44280" y="304920"/>
            <a:ext cx="3841920" cy="5867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3886200" y="914400"/>
            <a:ext cx="4343400" cy="228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4664160" y="3827520"/>
            <a:ext cx="2879640" cy="18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2286000" y="0"/>
            <a:ext cx="4782960" cy="659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nulocy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380880" y="2017800"/>
            <a:ext cx="85741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5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Eosinophils or Acidophils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arge, numerous granul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uclei with two lob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2-5% of WBC cou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nd in lining of respiratory and digestive trac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mportant functions involve protections against infections caused by parasitic worms and involvement in allergic reac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rete anti-inflammatory substances in allergic reac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2743200" y="838080"/>
            <a:ext cx="421308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ophi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numerous--.5-1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pedesis—Can leave blood vessels and enter tissue 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 histamine,serotonin,heparin—inflammatory chemi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WordArt 2"/>
          <p:cNvSpPr txBox="1"/>
          <p:nvPr/>
        </p:nvSpPr>
        <p:spPr>
          <a:xfrm>
            <a:off x="2743200" y="485640"/>
            <a:ext cx="47214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5310"/>
                <a:gd name="adj2" fmla="val 4333"/>
              </a:avLst>
            </a:prstTxWarp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Times New Roman"/>
              </a:rPr>
              <a:t>Granulocyt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3924360" cy="3743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3429000" y="85680"/>
            <a:ext cx="5715000" cy="44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ranulocy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ymphocy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st WB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nuclei/small amount of cytopla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 for 25% of WBC cou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types—T lymphocytes—attack an infect or cancerous cell, B lymphocytes—produce antibodies against specific antigens (foreign bod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4738680" y="0"/>
            <a:ext cx="4405320" cy="4876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304920" y="3838680"/>
            <a:ext cx="3609720" cy="30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ranulocy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cy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st of WB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rk kidney bean shaped nucle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ly phagocyt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531468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228600" y="2286000"/>
            <a:ext cx="845820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SzPct val="102812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hite Blood cells are also known as Leucocytes as they are colorless due to lack of Haemoglobi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buSzPct val="102812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re are about 6000-8000mm of WBC for 1ml of bloo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buSzPct val="102812"/>
              <a:buBlip>
                <a:blip r:embed="rId3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se are also called Scavengers &amp; Microscopic policeme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2286000" y="914400"/>
            <a:ext cx="5257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Tahoma"/>
              </a:rPr>
              <a:t>White Blood Corpuscl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BC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114300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tors look at WBC numb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umber goes up there is some kind of infection and surgery might be need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nics will count the number of WBC’s in a blood sample, this is called differential cou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crease in the number of white blood cells is leukopen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crease in the number of white blood cells is leukocytos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mation of WBC’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ucocytes are formed in the red marrow of many b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also be formed in lymphatic tiss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live for about 13-20 day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1"/>
          <p:cNvGrpSpPr/>
          <p:nvPr/>
        </p:nvGrpSpPr>
        <p:grpSpPr>
          <a:xfrm>
            <a:off x="1371600" y="228600"/>
            <a:ext cx="6399360" cy="6399360"/>
            <a:chOff x="1371600" y="228600"/>
            <a:chExt cx="6399360" cy="6399360"/>
          </a:xfrm>
        </p:grpSpPr>
        <p:pic>
          <p:nvPicPr>
            <p:cNvPr id="146" name="Picture 2" descr=""/>
            <p:cNvPicPr/>
            <p:nvPr/>
          </p:nvPicPr>
          <p:blipFill>
            <a:blip r:embed="rId1"/>
            <a:stretch/>
          </p:blipFill>
          <p:spPr>
            <a:xfrm>
              <a:off x="1371600" y="228600"/>
              <a:ext cx="6399360" cy="639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3"/>
            <p:cNvSpPr/>
            <p:nvPr/>
          </p:nvSpPr>
          <p:spPr>
            <a:xfrm>
              <a:off x="1371600" y="228600"/>
              <a:ext cx="6399360" cy="639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WordArt 1" descr=""/>
          <p:cNvPicPr/>
          <p:nvPr/>
        </p:nvPicPr>
        <p:blipFill>
          <a:blip r:embed="rId1"/>
          <a:stretch/>
        </p:blipFill>
        <p:spPr>
          <a:xfrm>
            <a:off x="4346640" y="3651120"/>
            <a:ext cx="3882960" cy="23418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"/>
          <p:cNvSpPr/>
          <p:nvPr/>
        </p:nvSpPr>
        <p:spPr>
          <a:xfrm>
            <a:off x="685800" y="22860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eated b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4572000" y="5943600"/>
            <a:ext cx="3429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GUIIIT,Ba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BC’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ve Typ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ified according to the presence or absence of granules and the staining characteristics of their cytoplas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ucocytes appear brightly colored in stained preparations, they have a nuclei and are generally larger in size than RBC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61920" y="2286000"/>
            <a:ext cx="9082080" cy="36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 of WBC’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115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Granulocytes—have large granules in their cytoplasm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eutrophi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osinophi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asophi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4419720" y="304920"/>
            <a:ext cx="4424400" cy="6224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0" y="2641680"/>
            <a:ext cx="4419720" cy="421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s of WBC’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1026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ahoma"/>
              </a:rPr>
              <a:t>Agranulocytes—do not have granules in their cytoplasm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ymphocy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onocy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445752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nulocty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56664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utrophi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in light purple with neutral dy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nules are small and numerous—course appear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al lobes in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5% of WBC cou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ly mobile/very a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pedesis—Can leave blood vessels and enter tissue 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gocytosis (eater), contain several lysosomes (janito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16:31:14Z</dcterms:created>
  <dc:creator>HS Room 33</dc:creator>
  <dc:description/>
  <dc:language>en-US</dc:language>
  <cp:lastModifiedBy>RomaK</cp:lastModifiedBy>
  <dcterms:modified xsi:type="dcterms:W3CDTF">2015-09-04T10:58:52Z</dcterms:modified>
  <cp:revision>10</cp:revision>
  <dc:subject/>
  <dc:title>Leukocytes White Blood Cells</dc:title>
</cp:coreProperties>
</file>